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361-563F-44F3-91E2-A9B9F7D3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BC8-B993-471C-B891-6BCF8B25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BB6-EC45-414B-863D-758A3800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AD5-B74D-4775-B5FE-4436FA5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81D-D6E1-40E6-ADC6-71877C7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9D2-63B1-42BF-8965-CFA64277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7D2-AEC1-4F5B-8051-3B4815FD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F76-28F3-42A6-A98E-70916BC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148-3561-46C7-8202-D0E6C283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EC3-B3BA-486A-A94B-F4729F0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77F-FD33-4705-8053-AAB9E55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D0B-E366-4063-9485-B695025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B768-3062-4336-B107-D2619CBA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UMPE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y C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stening to Rock n’ Roll increase  blood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believe that listening to Rock n’ Roll will increase blood press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3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 C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s: Sam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: Resting Heart Rate vs. Rock n’ Roll Heart RateDependent Variable: See Resul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Heart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 n’ Roll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          60 BPM                                9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er     8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ne      95 BPM                               11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i     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    80 BPM                                85 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0:28Z</dcterms:created>
  <dc:creator>USD376</dc:creator>
  <dc:description/>
  <dc:language>en-US</dc:language>
  <cp:lastModifiedBy>STERLING  USD376</cp:lastModifiedBy>
  <dcterms:modified xsi:type="dcterms:W3CDTF">2010-02-10T15:56:39Z</dcterms:modified>
  <cp:revision>12</cp:revision>
  <dc:subject/>
  <dc:title>Game On!</dc:title>
</cp:coreProperties>
</file>